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5871-5268-43B7-B1D8-0BB1B5AD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963-0116-4F68-B103-DEEE16D1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DE1-3B84-4039-B666-AB68C388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22E-3518-4ED3-99FA-586934F1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572A-E797-45F9-8F94-E98E39CB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7BFC-9D8A-4226-A490-0DC574F3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5947-A4E4-4BA0-9110-A3CB229A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DBF4-BF26-4710-BD1E-5527A6A2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1AC7-BAA8-4E61-A888-DDE4CCA7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9724-2CA9-4B77-9575-4D0B6E45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1D5-6E68-4D6A-B7D3-16215E53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40E0-75D0-4589-8CCA-2945FEDC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33F7-3FBB-4C84-B9DF-D81D486D6F02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Green Bel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Are The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eenbel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re established to prevent the continued growth of many of the largest cities of England and Scotl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rings of heavily protected open land circling an urban are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im to protect the surrounding countryside from development, and in some cases stop two large cities from merg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permission is not usually granted for schemes on green belt land, although there is often great pressure to allow some proposals throug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25 is built through much of London's greenbel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main problems of the greenbelts is that they have led to people commuting further into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3:14:34Z</dcterms:created>
  <dc:creator>Dell_02</dc:creator>
  <dc:description/>
  <dc:language>en-US</dc:language>
  <cp:lastModifiedBy>Dell_02</cp:lastModifiedBy>
  <dcterms:modified xsi:type="dcterms:W3CDTF">2011-01-26T03:17:07Z</dcterms:modified>
  <cp:revision>1</cp:revision>
  <dc:subject/>
  <dc:title>Green Belts</dc:title>
</cp:coreProperties>
</file>